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10158413" cy="7621588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0D53-C903-441A-BDA9-6DC34C1C6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C400-980B-4750-BF05-271CAC224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8873-CCFA-4779-B60A-6FC8BC9DB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331E-4456-4DFD-AB14-500873B2D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CC32-5341-4E7C-B2A9-F778280972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18A-BD73-471B-A4D1-1AC517A0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105-AF87-4971-B7BD-5F6C25A1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ECB-3385-4220-97D4-26BBEA96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B0F-9D27-459D-8C6A-7C16B0AF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7CA0-1AE2-419A-8E42-F970E257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5153-3C20-4FA1-A53B-FF3A83A7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F768-5ED3-4F3F-9595-CAE9C6F7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F1CC-D8F3-4E70-99A8-44F9C241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9DC5-015E-40C1-A02B-EE4E7F8A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59BF-5A28-44B3-AF92-8CF7F974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49DC-71DA-42A6-9220-0D62667C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24EA-CAB9-4B0A-B71D-4A9DB2F3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633B-CAAE-43F6-B4BA-B24667C6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BBF2-0086-45E1-B536-5EECF1D2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9F9B-4B1C-44C9-8665-13CCDF36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FE27-9400-4974-A1FB-35F5E0E5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2030-3B91-49C0-8281-15B1266C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E929C-6C58-4E75-8EE7-33076A7E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A0CBA-F4C8-43E0-9062-7548E44A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36910-5830-4829-9DB1-6F6E328B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2C6DF-096C-4393-838A-7649A4BE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A3E57-90A6-438C-B8E3-3A30BD11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C814-F1CE-4624-BA92-2992543A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6BE43-675F-4AEB-A4CD-853ED748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17E3-5A9D-4569-AD9E-1CCD3A6A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729A7-112C-46D9-9BF4-865E2D8B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8CD15-C359-4E0F-A303-41222961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58CC9-6A8D-40E6-BB19-B7A5F22A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7AB05-340C-4496-9212-49C1BFDA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B8EFF-4EFD-41E2-9DBA-54488D01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0AF-9131-41B3-AD3A-8558A7DE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E50-B5A8-4C41-89EB-E0F5F871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80C-201F-42AF-8B40-D7416C62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645-0DF6-4340-97B2-1824D0D2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4F5-DC9A-4747-8863-28486354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C53-088A-407E-B38F-3B09375D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C8A9-62AA-4675-8FA2-F827D462007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8948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3CC7-730D-4F62-9477-6FD64818EE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7237080"/>
            <a:ext cx="1349280" cy="38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28D5-BFCA-495A-BF1F-EBDC04742356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503000" y="7237080"/>
            <a:ext cx="7723080" cy="38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ptoukh, AGU'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9325080" y="7224840"/>
            <a:ext cx="814320" cy="382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74E5-F7B3-4BF3-AFD0-522F29E7A9BC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7" descr="fullblack"/>
          <p:cNvPicPr/>
          <p:nvPr/>
        </p:nvPicPr>
        <p:blipFill>
          <a:blip r:embed="rId2"/>
          <a:srcRect l="15465" t="17982" r="22436" b="13603"/>
          <a:stretch/>
        </p:blipFill>
        <p:spPr>
          <a:xfrm>
            <a:off x="46080" y="33480"/>
            <a:ext cx="79992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62120" y="7178760"/>
            <a:ext cx="211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5B02-1673-46FA-8FE4-F7DDBA93106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70040" y="7178760"/>
            <a:ext cx="321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79920" y="7178760"/>
            <a:ext cx="21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044F-2D01-4161-9F0B-D3EABB4DE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736560" y="4416480"/>
            <a:ext cx="86868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Gregory Leptoukh, NASA GS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With some “borrowing” from Chris Lynnes, Ralph Kahn, Jeff R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Towards Consistent Characterization of Quality and Uncertainty in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 Multi-sensor Aerosol Level 3 Satellite Data</a:t>
            </a: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736560" y="64771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ded in part by NASA ESTO and ACCESS progr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1720" y="275760"/>
            <a:ext cx="8424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298"/>
                </a:solidFill>
                <a:latin typeface="Arial"/>
              </a:rPr>
              <a:t>Case 1: MODIS vs. MERIS</a:t>
            </a:r>
            <a:endParaRPr b="0" lang="en-US" sz="31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5089680" y="1471680"/>
            <a:ext cx="4743360" cy="3938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317520" y="1450800"/>
            <a:ext cx="4594320" cy="33354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2216160" y="838080"/>
            <a:ext cx="43815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298"/>
                </a:solidFill>
                <a:latin typeface="Comic Sans MS"/>
              </a:rPr>
              <a:t>Same 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405400" y="838080"/>
            <a:ext cx="446724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298"/>
                </a:solidFill>
                <a:latin typeface="Comic Sans MS"/>
              </a:rPr>
              <a:t>Same space &amp;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9" descr=""/>
          <p:cNvPicPr/>
          <p:nvPr/>
        </p:nvPicPr>
        <p:blipFill>
          <a:blip r:embed="rId3"/>
          <a:stretch/>
        </p:blipFill>
        <p:spPr>
          <a:xfrm>
            <a:off x="7101000" y="1260360"/>
            <a:ext cx="679320" cy="2473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4"/>
          <a:stretch/>
        </p:blipFill>
        <p:spPr>
          <a:xfrm>
            <a:off x="2870280" y="1303200"/>
            <a:ext cx="1057320" cy="212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507960" y="5257800"/>
            <a:ext cx="4419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298"/>
                </a:solidFill>
                <a:latin typeface="Comic Sans MS"/>
              </a:rPr>
              <a:t>Different results –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738360" y="1986120"/>
            <a:ext cx="17985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Arial"/>
              </a:rPr>
              <a:t>MOD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5472000" y="1992240"/>
            <a:ext cx="1797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Arial"/>
              </a:rPr>
              <a:t>ME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355680" y="6019920"/>
            <a:ext cx="9524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 threshold used in MERIS processing effectively excludes high aerosol values.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Note: MERIS was designed primarily as an ocean-color instrument, so aerosols are “obstacles” not sig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143000" y="104760"/>
            <a:ext cx="5567400" cy="6685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88480" y="299520"/>
            <a:ext cx="906804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Case 2: Aggregation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203040" y="1946160"/>
            <a:ext cx="4648320" cy="2854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1346040" y="5105520"/>
            <a:ext cx="27054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shchenk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t al.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03040" y="5851440"/>
            <a:ext cx="94489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e AOD difference can be up to 40% due to differences in 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8" descr=""/>
          <p:cNvPicPr/>
          <p:nvPr/>
        </p:nvPicPr>
        <p:blipFill>
          <a:blip r:embed="rId3"/>
          <a:stretch/>
        </p:blipFill>
        <p:spPr>
          <a:xfrm>
            <a:off x="5613480" y="16002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"/>
          <p:cNvPicPr/>
          <p:nvPr/>
        </p:nvPicPr>
        <p:blipFill>
          <a:blip r:embed="rId4"/>
          <a:stretch/>
        </p:blipFill>
        <p:spPr>
          <a:xfrm>
            <a:off x="2870280" y="3581280"/>
            <a:ext cx="4495680" cy="9144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1"/>
          <p:cNvSpPr/>
          <p:nvPr/>
        </p:nvSpPr>
        <p:spPr>
          <a:xfrm>
            <a:off x="5842080" y="5114880"/>
            <a:ext cx="3382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vy, Leptoukh, et al.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431640" y="1079640"/>
            <a:ext cx="4419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OD difference between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5156280" y="939960"/>
            <a:ext cx="4419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S Terra only AOD: difference between diff. aggre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4" descr=""/>
          <p:cNvPicPr/>
          <p:nvPr/>
        </p:nvPicPr>
        <p:blipFill>
          <a:blip r:embed="rId5"/>
          <a:stretch/>
        </p:blipFill>
        <p:spPr>
          <a:xfrm>
            <a:off x="31680" y="20520"/>
            <a:ext cx="825480" cy="827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"/>
          <p:cNvPicPr/>
          <p:nvPr/>
        </p:nvPicPr>
        <p:blipFill>
          <a:blip r:embed="rId6"/>
          <a:stretch/>
        </p:blipFill>
        <p:spPr>
          <a:xfrm>
            <a:off x="2946240" y="2666880"/>
            <a:ext cx="4191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90CE-67CF-4819-8B99-20F6BB467E7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1623-1823-44FB-AE2D-54575372D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6200" y="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ase 3: DataDay definition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rcRect l="0" t="4166" r="0" b="0"/>
          <a:stretch/>
        </p:blipFill>
        <p:spPr>
          <a:xfrm>
            <a:off x="1066680" y="1066680"/>
            <a:ext cx="7442280" cy="5094360"/>
          </a:xfrm>
          <a:prstGeom prst="rect">
            <a:avLst/>
          </a:prstGeom>
          <a:ln w="0">
            <a:noFill/>
          </a:ln>
        </p:spPr>
      </p:pic>
      <p:sp>
        <p:nvSpPr>
          <p:cNvPr id="211" name="Oval 6"/>
          <p:cNvSpPr/>
          <p:nvPr/>
        </p:nvSpPr>
        <p:spPr>
          <a:xfrm>
            <a:off x="4089240" y="2057400"/>
            <a:ext cx="1624320" cy="3218040"/>
          </a:xfrm>
          <a:prstGeom prst="ellipse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203040" y="6172200"/>
            <a:ext cx="96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MODIS-Terra vs. MODIS-Aqua: Map of AOD temporal correlation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Straight Arrow Connector 9"/>
          <p:cNvCxnSpPr/>
          <p:nvPr/>
        </p:nvCxnSpPr>
        <p:spPr>
          <a:xfrm flipH="1">
            <a:off x="5231520" y="1676520"/>
            <a:ext cx="3886920" cy="167688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14" name="TextBox 13"/>
          <p:cNvSpPr/>
          <p:nvPr/>
        </p:nvSpPr>
        <p:spPr>
          <a:xfrm>
            <a:off x="203040" y="662940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S Level 3 dataday definition leads to artifact in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88480" y="151920"/>
            <a:ext cx="8636040" cy="12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Factors contributing to uncertainty and bias in L2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5680" y="1600200"/>
            <a:ext cx="9448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Physic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instrument, retrieval algorithm, aerosol spatial and temporal variability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npu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ancillary data used by the retrieval algorith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Classific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erroneous flagging of the data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imul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 geophysical model used for the retrieva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ampl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 averaging within the retrieval footpri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orrowed from the SST study on error budg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824D-A942-4744-B4F0-CD610B29285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7A0E-31F0-4D86-BCA6-BE59F633A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46000" y="228240"/>
            <a:ext cx="91440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Different kinds of reported and perceived data quality 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79360" y="1447560"/>
            <a:ext cx="967752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Pixel-leve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Quality (reported):  algorithmic guess at usability of data point (some say it reflects the algorithm “happiness”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ranule-level Quality:  statistical roll-up of Pixel-level Qu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Product-level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Quality (wanted/perceived):  how closely the data represent the actual geophysical st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Record-leve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Quality: how consistent and reliable the data record is across generations of measure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Different quality types are often erroneously assumed having the same mea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Different focus and action at these different levels to ensure Data Qu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2D73-5D31-4B0D-B177-03E7133377C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839A-25F6-45C2-959F-41B058324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5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6360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General Level 2 Pixel-Level Issues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03040" y="990720"/>
            <a:ext cx="9677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to extrapolate validation knowledge about selected Level 2 pixels to the Level 2 (swath) produc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to harmonize terms and methods for pixel-level quality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049C-8716-4E79-AF96-7365E4DB87A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Date Placeholder 5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5F45-96E9-45CC-87E5-8969C8D100D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23"/>
          <p:cNvGrpSpPr/>
          <p:nvPr/>
        </p:nvGrpSpPr>
        <p:grpSpPr>
          <a:xfrm>
            <a:off x="355680" y="2590920"/>
            <a:ext cx="9554760" cy="4593960"/>
            <a:chOff x="355680" y="2590920"/>
            <a:chExt cx="9554760" cy="4593960"/>
          </a:xfrm>
        </p:grpSpPr>
        <p:sp>
          <p:nvSpPr>
            <p:cNvPr id="231" name="TextBox 7"/>
            <p:cNvSpPr/>
            <p:nvPr/>
          </p:nvSpPr>
          <p:spPr>
            <a:xfrm>
              <a:off x="812880" y="2590920"/>
              <a:ext cx="373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AIRS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Quality Indicato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Box 8"/>
            <p:cNvSpPr/>
            <p:nvPr/>
          </p:nvSpPr>
          <p:spPr>
            <a:xfrm>
              <a:off x="5049720" y="2590920"/>
              <a:ext cx="4524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MODIS Aerosols Confidence Fla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Box 9"/>
            <p:cNvSpPr/>
            <p:nvPr/>
          </p:nvSpPr>
          <p:spPr>
            <a:xfrm>
              <a:off x="660240" y="4013280"/>
              <a:ext cx="421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0   Best</a:t>
              </a: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          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rebuchet MS"/>
                </a:rPr>
                <a:t>Data Assimi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Trebuchet MS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Good         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rebuchet MS"/>
                </a:rPr>
                <a:t>Climatic Stud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Trebuchet MS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Do Not U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5235480" y="5545080"/>
              <a:ext cx="4524480" cy="1639800"/>
            </a:xfrm>
            <a:prstGeom prst="rect">
              <a:avLst/>
            </a:prstGeom>
            <a:solidFill>
              <a:srgbClr val="6095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800000"/>
                  </a:solidFill>
                  <a:latin typeface="Trebuchet MS"/>
                </a:rPr>
                <a:t>Use these flags in order to stay within expected error bou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>
              <a:off x="7139160" y="4002120"/>
              <a:ext cx="2636640" cy="366480"/>
            </a:xfrm>
            <a:prstGeom prst="rect">
              <a:avLst/>
            </a:prstGeom>
            <a:solidFill>
              <a:srgbClr val="6095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1"/>
            <p:cNvSpPr/>
            <p:nvPr/>
          </p:nvSpPr>
          <p:spPr>
            <a:xfrm>
              <a:off x="5232600" y="4002120"/>
              <a:ext cx="2101680" cy="1015920"/>
            </a:xfrm>
            <a:prstGeom prst="rect">
              <a:avLst/>
            </a:prstGeom>
            <a:solidFill>
              <a:srgbClr val="6095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Box 10"/>
            <p:cNvSpPr/>
            <p:nvPr/>
          </p:nvSpPr>
          <p:spPr>
            <a:xfrm>
              <a:off x="7568280" y="4002120"/>
              <a:ext cx="2342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Trebuchet MS"/>
                <a:buAutoNum type="arabicPlain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Very Go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2    Go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1    Marg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0    B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Box 13"/>
            <p:cNvSpPr/>
            <p:nvPr/>
          </p:nvSpPr>
          <p:spPr>
            <a:xfrm>
              <a:off x="4929840" y="4002120"/>
              <a:ext cx="2342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Trebuchet MS"/>
                <a:buAutoNum type="arabicPlain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Very Go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2    Go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1    Marg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0    B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Box 25"/>
            <p:cNvSpPr/>
            <p:nvPr/>
          </p:nvSpPr>
          <p:spPr>
            <a:xfrm>
              <a:off x="5669640" y="357660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Trebuchet MS"/>
                </a:rPr>
                <a:t>Oc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Box 26"/>
            <p:cNvSpPr/>
            <p:nvPr/>
          </p:nvSpPr>
          <p:spPr>
            <a:xfrm>
              <a:off x="8241480" y="3578040"/>
              <a:ext cx="77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Trebuchet MS"/>
                </a:rPr>
                <a:t>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30"/>
            <p:cNvSpPr/>
            <p:nvPr/>
          </p:nvSpPr>
          <p:spPr>
            <a:xfrm>
              <a:off x="7788240" y="6640560"/>
              <a:ext cx="208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±0.05 ± 0.15 </a:t>
              </a: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  <a:ea typeface="Symbo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32"/>
            <p:cNvSpPr/>
            <p:nvPr/>
          </p:nvSpPr>
          <p:spPr>
            <a:xfrm>
              <a:off x="5280840" y="666756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±0.03 ± 0.10 </a:t>
              </a: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  <a:ea typeface="Symbo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Box 16"/>
            <p:cNvSpPr/>
            <p:nvPr/>
          </p:nvSpPr>
          <p:spPr>
            <a:xfrm>
              <a:off x="5843520" y="637848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rebuchet MS"/>
                </a:rPr>
                <a:t>Oc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Box 17"/>
            <p:cNvSpPr/>
            <p:nvPr/>
          </p:nvSpPr>
          <p:spPr>
            <a:xfrm>
              <a:off x="8404920" y="6380280"/>
              <a:ext cx="77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rebuchet MS"/>
                </a:rPr>
                <a:t>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Box 19"/>
            <p:cNvSpPr/>
            <p:nvPr/>
          </p:nvSpPr>
          <p:spPr>
            <a:xfrm>
              <a:off x="3174840" y="525312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Purp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ight Arrow 21"/>
            <p:cNvSpPr/>
            <p:nvPr/>
          </p:nvSpPr>
          <p:spPr>
            <a:xfrm rot="16200000">
              <a:off x="3403440" y="4718880"/>
              <a:ext cx="704520" cy="514080"/>
            </a:xfrm>
            <a:prstGeom prst="rightArrow">
              <a:avLst>
                <a:gd name="adj1" fmla="val 50000"/>
                <a:gd name="adj2" fmla="val 50002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Box 22"/>
            <p:cNvSpPr/>
            <p:nvPr/>
          </p:nvSpPr>
          <p:spPr>
            <a:xfrm>
              <a:off x="355680" y="59436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atch up the recommendation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36200" y="75960"/>
            <a:ext cx="929628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Why can’t we just apply L2 quality to L3?</a:t>
            </a: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38040" y="914040"/>
            <a:ext cx="9568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43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Aggregation to L3 introduces new issues where aerosols co-vary with some observing or environmental condition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5840" indent="-243000">
              <a:spcBef>
                <a:spcPts val="79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Spati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sampling polar areas more than equatori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5840" indent="-24300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Tempor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sampling one time of a day only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(not obvious when looking at L3 map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43000">
              <a:spcBef>
                <a:spcPts val="79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Vertic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not sensitive to a certain part of the atmosphere thus emphasizing other par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5840" indent="-243000">
              <a:spcBef>
                <a:spcPts val="79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Contextual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ight surface or clear sky bia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5840" indent="-243000">
              <a:spcBef>
                <a:spcPts val="79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Pixel Qualit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filtering or weighting by quality may mask out areas with specific fea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C146-7AC9-4AA2-877B-51EA22D4E61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Date Placeholder 5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BE43-731F-4111-9DF4-2AD0A6AE4E7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7960" y="169560"/>
            <a:ext cx="9144000" cy="45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Validation of Level 3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23720" y="761760"/>
            <a:ext cx="9482400" cy="60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ual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vel 2: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regress against the tru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vel 3: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ggregate and then regress against the aggregated tru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aring a mean value in 1 deg grid box with data from stations in the same big area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presentativeness bia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reasing aggregation: spatial over satellite data and temporal over station data – works well only for large homogenous fiel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aring variance in the data  with knowledge about atmospheric variability.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Comparison of retrieved maps with climatology can indicate systematic effe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arison with models (how ironic!) for initial valid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oesn’t look comprehensive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4FEE-81D3-4D25-9DBE-CD8F6A17578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1C31-F352-4B50-ADAC-F9A57A18914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7960" y="169560"/>
            <a:ext cx="9144000" cy="45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urrent initiatives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79000" y="931680"/>
            <a:ext cx="9626760" cy="57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SA expands the 2006 MEaSUREs and 2008 ACCESS programs emphasis on data quality to the 2010 ESDRERR progra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SA is imposing contractual requirements for providing quality information within the Climate Change Initia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w 2010 Guideline for the Generation of Datasets and Products Meeting GCOS Require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EOS QA for Earth Observations (QA4EO) recommendations for capturing uncertainties – currently do not go beyond Level 1 or 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EWEX panel on aerosols (several incarnation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BED4-B00B-4EF7-A04C-FDB3D5BE639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F2DF-52A9-4473-833D-EF25C8970F4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796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hat do we recommend?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07960" y="762120"/>
            <a:ext cx="9313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MS PGothic"/>
              </a:rPr>
              <a:t>A framework for consistent assessment, capture and presentation of data quality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Establish terminology for Level 3 quality and validation (currently it differs from field to field, group to grou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Harmonize quality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cross product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MS PGothic"/>
              </a:rPr>
              <a:t>Consistent aggregat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to Level 3 to ensure compatibility between data from different instruments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Directly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MS PGothic"/>
              </a:rPr>
              <a:t>address and quantify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vario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MS PGothic"/>
              </a:rPr>
              <a:t>bia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 types at product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Extrapolate validation knowledge about L2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duct quality to Level 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MS PGothic"/>
              </a:rPr>
              <a:t>Deliver quality informatio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to users of data in a way they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MS PGothic"/>
              </a:rPr>
              <a:t>can understand and use it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MS PGothic"/>
              </a:rPr>
              <a:t>Extend QA4EO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and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MS PGothic"/>
              </a:rPr>
              <a:t> other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efforts to Level 3 d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 we can answer a typical user question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Which product is better for my purpos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676B-C636-4E6A-B274-0C3323B6DA4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E3C2-B0D0-4618-8548-44F446BCB5B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88480" y="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990360"/>
            <a:ext cx="90518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hy Level 3 data and what is missing in L3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Quality needs: fitness for purpo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Level 3 quality aspe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Biases: sampling and processing-rela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Perspectives of Data Quality: Pixel vs.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Level 3 validati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hat needs to be done?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A framework for consistent assessment and quantification of Level 3 data qua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EC56-3B6C-4039-88AA-B08A4EB7D94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5A38-7975-44C2-AB1B-46CD01611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636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hy use Level 3 products?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7960" y="76176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tellite Level 2 data are difficult to work with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lex form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licated projection (swath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ta volu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umber of files, etc., etc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vel 3 products are widely used by modelers, application users, climate change scienti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vel 3 data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re easy to u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 … but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ow good are these data for various purposes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Challeng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to answer a typical data user question: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 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Which product is better for m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D4F8-699B-4471-B38D-2728F3AE4A6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B53C-D579-4B2C-90A6-D2913EAA9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84240"/>
            <a:ext cx="91440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Data quality needs: fitness for purpose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4160" y="990720"/>
            <a:ext cx="9735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Measuring Climate Change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Model validation - 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gridded contiguous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data 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with uncertainties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in grid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cell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Long-term time series – 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bias assessment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is the must , e.g., sensor degradation, orbit and spatial sampling change (e.g., changing cloud cover over tropical oceans due to El-Nino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Studying phenomena using multi-sensor data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Consistently processed and presented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data with 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quality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inform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Realizing Societal Benefits through Applications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Near-Real Time for transport and event monitoring - in some cases, 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coverage and timeliness might be more important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that accurac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Pollution monitoring (e.g., air quality exceedance levels) –  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accurac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ducational (users generally not well-versed in the intricacies of quality; just taking all the data as usable can impair educational lessons) – </a:t>
            </a:r>
            <a:r>
              <a:rPr b="0" lang="en-US" sz="2700" spc="-1" strike="noStrike">
                <a:solidFill>
                  <a:srgbClr val="ffff00"/>
                </a:solidFill>
                <a:latin typeface="Calibri"/>
                <a:ea typeface="ヒラギノ角ゴ Pro W3"/>
              </a:rPr>
              <a:t>only the best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product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4D3E-841F-48A1-8218-E68A2019FDC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1457-65B7-4204-980B-924691124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6360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Why is it so complicated for Level 3? 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31280" y="1066320"/>
            <a:ext cx="9372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storical reas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ually,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Science Teams are tasked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produce &amp; validate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Level 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d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Usability of L3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ta usually i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not a high priority for Science Tea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Level 3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products are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treate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mostly as jus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imagery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 to assess gross features and variability of geophysical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3 data are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constructed differently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different instru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L2 uncertainty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ually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not propagated to L3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L3 “validation”, in most cases, is done by either comparing with point data or consistency checking with L3 data from other sensors or models, or jus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declaring it “validated” if L2 data a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No consistent efforts to characterize &amp; quantify L3 uncertainties across sensor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esides some individual effor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AA73-9737-4F2B-BB75-8BBD387941A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1904-C869-477A-92AA-0016B1195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0240" y="75960"/>
            <a:ext cx="91440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Addressing Level 3 data “quality”</a:t>
            </a: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5680" y="76212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rminology: Quality, Uncertainty, Bias, Error budget, et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lity aspects (examples)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nes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Spatial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MODIS covers more than MISR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Temporal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Terra mission has been longer in space than Aqua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Observing Conditio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MODIS cannot measure over sun glint while MISR ca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ency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Spatial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(e.g.,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not changing over sea-land boundary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Temporal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e.g.,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trends, discontinuities and anomali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Observing Conditio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(e.g.,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exhibit variations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 retrieved measurements due to the viewing conditions, such as viewing geometry or cloud frac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resentativenes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ther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pixel count nor standard deviation fully express how representative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grid cell value 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xample from R. Kahn: for global, ~ 1˚ x 1˚ AOD, in general, MISR data need to be aggregated to ~ 3-month sampling to converge with MODI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565920" indent="-22608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A008-A2A5-4156-8CAD-C884C92B553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ate Placeholder 5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70FE-CA2C-460F-92E0-5E7F2B40506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9880" y="83880"/>
            <a:ext cx="899172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Calibri"/>
              </a:rPr>
              <a:t>Spatial and temporal sampling – how to quantify to make it useful for modelers? </a:t>
            </a:r>
            <a:endParaRPr b="0" lang="en-US" sz="3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600" y="914040"/>
            <a:ext cx="44895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ODIS Aqua AOD July 2009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" name="Content Placeholder 6" descr="Optical_Depth_Land_And_Ocean_Mean_Mean.MYD08_M3.051.AreaMap.2009-07.gif"/>
          <p:cNvPicPr/>
          <p:nvPr/>
        </p:nvPicPr>
        <p:blipFill>
          <a:blip r:embed="rId1"/>
          <a:stretch/>
        </p:blipFill>
        <p:spPr>
          <a:xfrm>
            <a:off x="200160" y="1574640"/>
            <a:ext cx="4964040" cy="354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98640" y="914040"/>
            <a:ext cx="449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ISR Terra AOD July 2009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Content Placeholder 7" descr="Optical_depth_average_Green.MIL3MAE.004.AreaMap.2009-07.gif"/>
          <p:cNvPicPr/>
          <p:nvPr/>
        </p:nvPicPr>
        <p:blipFill>
          <a:blip r:embed="rId2"/>
          <a:stretch/>
        </p:blipFill>
        <p:spPr>
          <a:xfrm>
            <a:off x="5079960" y="1574640"/>
            <a:ext cx="4965840" cy="35481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6"/>
          <p:cNvSpPr/>
          <p:nvPr/>
        </p:nvSpPr>
        <p:spPr>
          <a:xfrm>
            <a:off x="177840" y="5486400"/>
            <a:ext cx="9702720" cy="10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Completeness: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ODIS dark target algorithm does not work for des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Representativeness: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onthly aggregation is not enough for MISR and even MO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Oval 55" descr=""/>
          <p:cNvPicPr/>
          <p:nvPr/>
        </p:nvPicPr>
        <p:blipFill>
          <a:blip r:embed="rId3"/>
          <a:stretch/>
        </p:blipFill>
        <p:spPr>
          <a:xfrm>
            <a:off x="6076800" y="2541600"/>
            <a:ext cx="519120" cy="1006560"/>
          </a:xfrm>
          <a:prstGeom prst="rect">
            <a:avLst/>
          </a:prstGeom>
          <a:ln w="0">
            <a:noFill/>
          </a:ln>
        </p:spPr>
      </p:pic>
      <p:pic>
        <p:nvPicPr>
          <p:cNvPr id="165" name="Oval 56" descr=""/>
          <p:cNvPicPr/>
          <p:nvPr/>
        </p:nvPicPr>
        <p:blipFill>
          <a:blip r:embed="rId4"/>
          <a:stretch/>
        </p:blipFill>
        <p:spPr>
          <a:xfrm>
            <a:off x="6523200" y="2535120"/>
            <a:ext cx="615960" cy="1098720"/>
          </a:xfrm>
          <a:prstGeom prst="rect">
            <a:avLst/>
          </a:prstGeom>
          <a:ln w="0">
            <a:noFill/>
          </a:ln>
        </p:spPr>
      </p:pic>
      <p:pic>
        <p:nvPicPr>
          <p:cNvPr id="166" name="Oval 57" descr=""/>
          <p:cNvPicPr/>
          <p:nvPr/>
        </p:nvPicPr>
        <p:blipFill>
          <a:blip r:embed="rId5"/>
          <a:stretch/>
        </p:blipFill>
        <p:spPr>
          <a:xfrm>
            <a:off x="5553000" y="2614680"/>
            <a:ext cx="500040" cy="933480"/>
          </a:xfrm>
          <a:prstGeom prst="rect">
            <a:avLst/>
          </a:prstGeom>
          <a:ln w="0">
            <a:noFill/>
          </a:ln>
        </p:spPr>
      </p:pic>
      <p:pic>
        <p:nvPicPr>
          <p:cNvPr id="167" name="Oval 58" descr=""/>
          <p:cNvPicPr/>
          <p:nvPr/>
        </p:nvPicPr>
        <p:blipFill>
          <a:blip r:embed="rId6"/>
          <a:stretch/>
        </p:blipFill>
        <p:spPr>
          <a:xfrm>
            <a:off x="5095800" y="2614680"/>
            <a:ext cx="500040" cy="933480"/>
          </a:xfrm>
          <a:prstGeom prst="rect">
            <a:avLst/>
          </a:prstGeom>
          <a:ln w="0">
            <a:noFill/>
          </a:ln>
        </p:spPr>
      </p:pic>
      <p:pic>
        <p:nvPicPr>
          <p:cNvPr id="168" name="Oval 59" descr=""/>
          <p:cNvPicPr/>
          <p:nvPr/>
        </p:nvPicPr>
        <p:blipFill>
          <a:blip r:embed="rId7"/>
          <a:stretch/>
        </p:blipFill>
        <p:spPr>
          <a:xfrm>
            <a:off x="7034040" y="2316240"/>
            <a:ext cx="579600" cy="12254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5"/>
          <p:cNvSpPr/>
          <p:nvPr/>
        </p:nvSpPr>
        <p:spPr>
          <a:xfrm>
            <a:off x="177840" y="6137280"/>
            <a:ext cx="9702720" cy="10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Spatial sampling patterns are different for MODIS Aqua and MISR Terra: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“pulsating” areas over ocean are oriented differently due to different direction of orbiting during day-time measurement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gnitive b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Date Placeholder 66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BF38-8BEA-4392-95F6-F6E87574647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67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33AD-DC06-4515-80D0-E914CBE2D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68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8848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Is L3 quality different from L2 quality?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7960" y="12952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f L2 errors are known, the corresponding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L3 error can be computed, in princip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cessing from L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3 daily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L3 monthly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may reduce random nois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but can also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xacerbate systematic  bias and introduce additional sampling bi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ever, at best,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tandard deviation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mostly reflecting variability within a grid box), and sometimes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ixel counts and quality histogram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re provided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onvolution of natural variability with sensor/retrieval uncertainty and bia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– need to understand their relative contribution to differences between dat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does not address sampling bia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BC8F-F03B-445B-8AC4-51D5C88FF38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4CF9-8E13-4DA9-821A-41C26AD64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60240" y="75960"/>
            <a:ext cx="9499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ifferences in L3 from different sensors due to processing</a:t>
            </a:r>
            <a:endParaRPr b="0" lang="en-US" sz="2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5680" y="1066680"/>
            <a:ext cx="94485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patial and temporal binning (L2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L3 daily)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ads to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Aggregation bia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asurements (L2 pixels) from one or more orbits can go into a single grid cell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different within-grid variabi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ent weighting: pixel counts, qu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resholds used, i.e., &gt; 5 pixe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ata aggreg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(L3D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L3monthly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regional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global)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ighting by pixel counts or qu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resholds used, i.e., &gt; 2 day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hile these algorithms have been documented in ATBD, reports and papers, the typical data user is not immediately aware of how a given portion of the data has been processed, and what is the resulting impact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50760" y="7110360"/>
            <a:ext cx="211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6CC2-3333-4CDC-83CA-A1A08E2965A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470400" y="7110360"/>
            <a:ext cx="32194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ptoukh, AGU'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7989840" y="7110360"/>
            <a:ext cx="2119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5DD0-1A29-4565-B017-A154602E5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eptoukh</cp:lastModifiedBy>
  <dcterms:modified xsi:type="dcterms:W3CDTF">2010-12-17T20:20:01Z</dcterms:modified>
  <cp:revision>129</cp:revision>
  <dc:subject/>
  <dc:title>PowerPoint Presentation</dc:title>
</cp:coreProperties>
</file>